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517-0028-4483-A901-0AEE8516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905-93C7-41A5-9673-0914DD35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489-7A43-4DE2-B50B-26F9BF37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DBE-7A00-47EC-A8D8-B30ABA96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53D-B423-4444-8A88-D494BC42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6D0-FFD8-4CD5-8D9D-D986E60D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6E5-5900-4162-ADD6-EB48355C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B50-A84B-4763-A197-0E4EAD9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E79-BECE-4CEB-BB3A-BF17860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823-F01A-4402-B4E1-654525E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9B3-1F58-4129-8975-C455FAE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F08-D5B2-4A9F-B33A-B636E95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A5BC-384A-4A94-89B2-11101677304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9682" r="6249" b="7162"/>
          <a:stretch/>
        </p:blipFill>
        <p:spPr>
          <a:xfrm>
            <a:off x="0" y="1125360"/>
            <a:ext cx="9144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57:24Z</dcterms:created>
  <dc:creator>Ana</dc:creator>
  <dc:description/>
  <dc:language>en-US</dc:language>
  <cp:lastModifiedBy>Ana</cp:lastModifiedBy>
  <dcterms:modified xsi:type="dcterms:W3CDTF">2012-05-09T15:57:58Z</dcterms:modified>
  <cp:revision>1</cp:revision>
  <dc:subject/>
  <dc:title>Diapositiva 1</dc:title>
</cp:coreProperties>
</file>