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EF5-B68F-4C57-9941-95ED1009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7A1-30EC-41F3-B720-1CF0A623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969-BEBC-47AC-8F5E-DD1DF100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29D-0981-4DF8-93AD-4DB44D09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F83-53E1-4871-9581-3CA91363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7DB-B498-45E7-80A9-32009087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CEF-D3B7-4FE1-BEF3-E6D0D057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059-2583-444E-A1EB-4647502F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60F-3DC5-4073-BE6D-9F37192D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D33-5189-4828-A12B-FFCC4EA5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F5A-FB64-4FB1-ADF8-599262A1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991-414E-4E58-8022-B2D9366E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F9A-76B9-4FCD-B422-DC84A8E1380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3653" t="5902" r="14734" b="5902"/>
          <a:stretch/>
        </p:blipFill>
        <p:spPr>
          <a:xfrm>
            <a:off x="157320" y="333360"/>
            <a:ext cx="85914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3:57:01Z</dcterms:created>
  <dc:creator>Ana</dc:creator>
  <dc:description/>
  <dc:language>en-US</dc:language>
  <cp:lastModifiedBy>Ana</cp:lastModifiedBy>
  <dcterms:modified xsi:type="dcterms:W3CDTF">2012-05-09T13:58:03Z</dcterms:modified>
  <cp:revision>1</cp:revision>
  <dc:subject/>
  <dc:title>Diapositiva 1</dc:title>
</cp:coreProperties>
</file>