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27CB-4E16-4734-8C35-E9F8AF44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7224-2AC1-43C5-8BA0-363E88E2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2A25-8FC8-4B5F-9C5F-2DFC721A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586C-0E5C-4271-99A1-1C976EEE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F933-542A-4703-ADBB-9201F2F9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8210-DFCF-4A40-962F-E55C33A2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3595-07EE-4BBA-852C-D0CACDA9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2840-21E5-41EF-9025-24E50474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FF7D-01F0-422F-8CC5-6A35266A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312F-271E-4334-8F50-DA023F33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1851-99BE-495D-AB7D-71C4FC73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54BA-1049-4F92-AC20-E1C97AB1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DB52-E679-47B2-9A06-D18AAEE52F30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16304" t="22835" r="52111" b="24668"/>
          <a:stretch/>
        </p:blipFill>
        <p:spPr>
          <a:xfrm>
            <a:off x="34920" y="692280"/>
            <a:ext cx="8858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3:04:08Z</dcterms:created>
  <dc:creator>Ana</dc:creator>
  <dc:description/>
  <dc:language>en-US</dc:language>
  <cp:lastModifiedBy>Ana</cp:lastModifiedBy>
  <dcterms:modified xsi:type="dcterms:W3CDTF">2012-08-30T13:07:38Z</dcterms:modified>
  <cp:revision>1</cp:revision>
  <dc:subject/>
  <dc:title>Diapositiva 1</dc:title>
</cp:coreProperties>
</file>